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72C-C208-42EB-B5FA-8FFC289E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E6B-EC0D-4215-AEF9-973511EA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9DF-6E88-4C44-8FA8-D4A7A1E6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556-60B5-4372-BDAF-F80319B9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764-F892-4CC7-AA62-711C0EF0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354-FCC6-4176-8393-E464F5D0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B0A-E41B-4FF5-9FEA-E709771E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F4E-B12F-45D0-B3CE-2AC4C3A8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13E-144A-4B01-8575-707F2467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051-D266-47A4-A0FC-FA87A8E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8DA-0A7F-454F-B7EA-B21F1C81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1C6-793C-41C7-B353-436E6CC8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271B-E033-414C-9624-DABF9699D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6858000" cy="8801280"/>
            <a:chOff x="0" y="0"/>
            <a:chExt cx="6858000" cy="8801280"/>
          </a:xfrm>
        </p:grpSpPr>
        <p:sp>
          <p:nvSpPr>
            <p:cNvPr id="42" name="AutoShape 19"/>
            <p:cNvSpPr/>
            <p:nvPr/>
          </p:nvSpPr>
          <p:spPr>
            <a:xfrm>
              <a:off x="0" y="0"/>
              <a:ext cx="6858000" cy="88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588840" y="228240"/>
              <a:ext cx="28576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us Messag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What are you doing right now?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17"/>
            <p:cNvSpPr/>
            <p:nvPr/>
          </p:nvSpPr>
          <p:spPr>
            <a:xfrm>
              <a:off x="3588840" y="914040"/>
              <a:ext cx="28576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og Titles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16"/>
            <p:cNvSpPr/>
            <p:nvPr/>
          </p:nvSpPr>
          <p:spPr>
            <a:xfrm>
              <a:off x="3588840" y="1604880"/>
              <a:ext cx="2857680" cy="170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out M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sion for the Futur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15"/>
            <p:cNvSpPr/>
            <p:nvPr/>
          </p:nvSpPr>
          <p:spPr>
            <a:xfrm>
              <a:off x="2133360" y="228240"/>
              <a:ext cx="1257120" cy="19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ot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rthda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metow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st Login Dat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ectangle 14"/>
            <p:cNvSpPr/>
            <p:nvPr/>
          </p:nvSpPr>
          <p:spPr>
            <a:xfrm>
              <a:off x="2788560" y="3433680"/>
              <a:ext cx="3886200" cy="26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riends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903040" y="3771720"/>
              <a:ext cx="800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3817440" y="3771720"/>
              <a:ext cx="7999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4731840" y="3771720"/>
              <a:ext cx="7999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5646240" y="3771720"/>
              <a:ext cx="800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2903040" y="4914720"/>
              <a:ext cx="800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817440" y="4914720"/>
              <a:ext cx="7999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731840" y="4914720"/>
              <a:ext cx="7999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5646240" y="4914720"/>
              <a:ext cx="800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5"/>
            <p:cNvSpPr/>
            <p:nvPr/>
          </p:nvSpPr>
          <p:spPr>
            <a:xfrm>
              <a:off x="3474360" y="6058080"/>
              <a:ext cx="308592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ents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e of Comment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e of Comment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e of Comment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4"/>
            <p:cNvSpPr/>
            <p:nvPr/>
          </p:nvSpPr>
          <p:spPr>
            <a:xfrm>
              <a:off x="3588840" y="6514920"/>
              <a:ext cx="4572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3"/>
            <p:cNvSpPr/>
            <p:nvPr/>
          </p:nvSpPr>
          <p:spPr>
            <a:xfrm>
              <a:off x="3588840" y="7200720"/>
              <a:ext cx="4572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"/>
            <p:cNvSpPr/>
            <p:nvPr/>
          </p:nvSpPr>
          <p:spPr>
            <a:xfrm>
              <a:off x="3588840" y="7886520"/>
              <a:ext cx="4572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Rectangle 20"/>
          <p:cNvSpPr/>
          <p:nvPr/>
        </p:nvSpPr>
        <p:spPr>
          <a:xfrm>
            <a:off x="0" y="0"/>
            <a:ext cx="20574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hoto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er Nam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 Stat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cup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0" y="2819520"/>
            <a:ext cx="2400480" cy="61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Interes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ig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us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v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e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o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2367000" y="956232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4:22:17Z</dcterms:created>
  <dc:creator>hmhendri</dc:creator>
  <dc:description/>
  <dc:language>en-US</dc:language>
  <cp:lastModifiedBy>hmhendri</cp:lastModifiedBy>
  <dcterms:modified xsi:type="dcterms:W3CDTF">2012-10-26T14:24:53Z</dcterms:modified>
  <cp:revision>1</cp:revision>
  <dc:subject/>
  <dc:title>Slide 1</dc:title>
</cp:coreProperties>
</file>